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F0B51-FB86-459C-9A9D-24DB99D56BDA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Facial and intraoral photographs after treat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panoramic and occlusal radiographs of the maxillary arc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anteroposterior and lateral cephalometric radi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Superimposed cephalometric tracing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Intraoral photographs during the retention period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F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conical crown telescopic denture worn during the day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G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and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H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retainer worn at nigh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Dental casts during the retention perio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facial and intraoral photographs. Extensive scarring from the previous repair is seen in the upper lip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panoramic and occlusal radiographs of the maxill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anteroposterior and lateral cephalometric radi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Intraoral photograph of the partial denture with the expansion screw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Comparison of radiographs and dental casts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and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before the LeFort I surgery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and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D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after the LeFort I surger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Computed tomography scan after the alveolar bone graf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Intraoral photographs before the bilateral sagittal split ramus osteotom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lsevier.com/termsandcondition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1260360"/>
            <a:ext cx="864072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Interdisciplinary treatment of an adult with complete bilateral cleft lip and palat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Wataru Okada, Tadayoshi Fukui, Tomoyuki Saito, Chikahiro Ohkubo, Yoshiki Hamada, Yoshiki Nakamura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 141, Issue 4, Pages S149-S158 (April 2012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ajodo.2011.07.0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22360" y="812880"/>
            <a:ext cx="6350040" cy="4883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22360" y="2263680"/>
            <a:ext cx="6350040" cy="19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22360" y="1455840"/>
            <a:ext cx="6350040" cy="3595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3708360" cy="498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22360" y="1247760"/>
            <a:ext cx="6350040" cy="401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22360" y="1585800"/>
            <a:ext cx="6350040" cy="3337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60520" y="762120"/>
            <a:ext cx="6272280" cy="498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22360" y="1589040"/>
            <a:ext cx="6350040" cy="3330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22360" y="2286000"/>
            <a:ext cx="6350040" cy="193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22360" y="1459080"/>
            <a:ext cx="6350040" cy="3592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22360" y="1138320"/>
            <a:ext cx="6350040" cy="4233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22360" y="1538280"/>
            <a:ext cx="6350040" cy="3430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22360" y="1022400"/>
            <a:ext cx="6350040" cy="446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22360" y="1928880"/>
            <a:ext cx="6350040" cy="2649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2 141, S149-S158DOI: (10.1016/j.ajodo.2011.07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2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